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4FF28-7C40-49C4-AF0B-77248CB90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10A0D-C161-44C9-B9EF-C656717A8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96E26-27D0-4350-BD7A-08DE02711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A8F06-A8D3-483D-8807-80244A9AD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6033D2-5D82-4F65-BDC9-290CADB5E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48F28-476F-4F3D-A14D-1526B72703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E6A16-CC44-4D72-9ABA-957E305A4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7CD6B2-D65C-4AD2-8F03-056918BAB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5DA4F-63C6-4D0C-9835-BF674A7179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C4C4F-70B0-4F21-ADA3-4403DE5B3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D9B42-1B16-4744-8E8C-333E6D870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3F3D9-9D0E-4B21-96E9-294320753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15229-483A-4707-A38F-1326AA156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39484-42A1-46F6-8163-440251B0A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F1A6D-09AD-4519-8B2F-BC6F560B3B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75A26-8B1C-4AF8-901E-4A66C3FB9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5E813-ED82-4682-8EFE-8DFC4FDEC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F88117-C35F-4C0A-B7BF-CD1E6E2F89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62C148-1451-4572-A59E-326B03E04F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5E92CC-DF62-4122-8D6A-DDF88871B2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A87498-1A2A-4861-BDF8-342CBCE488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DD621-A5BF-4353-A582-93EBE9AB2E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A9597-7D38-408E-92EC-8B75A0302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61D00-1B53-4997-A129-ADD8B66DE3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072AE6-CDA9-4946-B00B-B86D2C62DD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83989-3812-437B-A94E-9F72815F77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BF4807-6623-4B0C-BC9D-CDCC145EC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21F47F-06B4-4F25-82DA-61636DB22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A3A017-A7A8-4737-B702-536FA69E6B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027C35-7A34-49B3-B0CA-01F9429A92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8DE702-7B50-48C0-BD27-661F6D11CB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8A5E0D-D4FA-4EAE-AF0F-1F6D1D3CFF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2E5988-8B4A-45CC-8E5A-000ABBF7E8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2D60D-D233-4CB1-BCF4-261A3B907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B8C290-B25B-4248-B094-66615D9FB3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4530A3-D0A3-448A-A735-2B6207D69D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F2C798-CFCD-44D7-AF60-3339C32BFE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07F0F-0929-4EAD-BFDA-B310D5FCA3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53B808-48E9-4C84-BA5F-4B96EACA78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0EF56-6D23-4E33-B800-BD54BA6075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D6468A-2B54-4C2C-B5BD-577D26D79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36F1EE-27E4-45FB-94E5-EEEFB2E458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0A4186-FE7B-4448-98BC-49EA701D9A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174D7-1815-4C5D-A514-548605438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2575A-5CE4-48B1-8910-5862D28A4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E4A89-8F26-4743-935D-38E9A5A23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1A846-8CC7-4D19-BC05-F95F8B4BE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A84DB-89C7-4449-A8EF-F09D155C9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E731-4CC6-4A5F-818E-7369162DFDC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14" name="Picture 8" descr="LOGO"/>
          <p:cNvPicPr/>
          <p:nvPr/>
        </p:nvPicPr>
        <p:blipFill>
          <a:blip r:embed="rId5"/>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60" name="Picture 8" descr="LOGO"/>
          <p:cNvPicPr/>
          <p:nvPr/>
        </p:nvPicPr>
        <p:blipFill>
          <a:blip r:embed="rId5"/>
          <a:stretch/>
        </p:blipFill>
        <p:spPr>
          <a:xfrm>
            <a:off x="2000160" y="0"/>
            <a:ext cx="4857840" cy="116352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45D8-DC75-484E-AD6C-28826FAA4C8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pic>
        <p:nvPicPr>
          <p:cNvPr id="111" name="Picture 8" descr="LOGO"/>
          <p:cNvPicPr/>
          <p:nvPr/>
        </p:nvPicPr>
        <p:blipFill>
          <a:blip r:embed="rId5"/>
          <a:stretch/>
        </p:blipFill>
        <p:spPr>
          <a:xfrm>
            <a:off x="2000160" y="0"/>
            <a:ext cx="4857840" cy="116352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6AD0-5699-44DB-AA9F-56B8F20540AE}"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A8F8-462A-4931-941C-5EBF7790DCD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Интегрисане академске студије стоматологије</a:t>
            </a:r>
            <a:endParaRPr b="0" lang="en-US" sz="28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мет: Енглески језик</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авач: Душица Лазић</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ut the verbs in brackets into the correct tense:</a:t>
            </a:r>
            <a:endParaRPr b="0" lang="en-US" sz="2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 long she (give up) smoking? She (do) that recently.</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this moment, he (make) plans how to carry out his important experiment.</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wo days ago, their friend (sprain) his ankle and he (must) go to hospital.</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ow fast you (drive) when the accident (happen)?</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doctor (study) the case for the last 20 minutes, but he (not draw) any conclusion yet.</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professor said that he (wait) for that opportunity for a long time.</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this time tomorrow, my associates (work) on a new project.</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e hoped no one (know) what (happen) to him.</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e (finish) our research by the end of May.</a:t>
            </a:r>
            <a:endParaRPr b="0" lang="en-US" sz="2000" spc="-1" strike="noStrike">
              <a:solidFill>
                <a:srgbClr val="000000"/>
              </a:solidFill>
              <a:latin typeface="Constantia"/>
            </a:endParaRPr>
          </a:p>
          <a:p>
            <a:pPr marL="261720" indent="-2617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lation:</a:t>
            </a:r>
            <a:endParaRPr b="0" lang="en-US" sz="28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nstantia"/>
              </a:rPr>
              <a:t>Превести краћи текст на енглески језик.</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Dental History</a:t>
            </a:r>
            <a:endParaRPr b="0" lang="en-US" sz="28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a:bodyPr>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short dental history is important in assessing the patient’s dental health and oral hygiene habits. The answers to these questions will help the dentist in diagnosis, treatment planning, and patients management. If, for example a patient complains of a mandibular joint pain or sore facial muscles on waking in the morning, the habit of bruxism, which is night grinding or clenching of the teeth, may be a possible cause of the trouble. The answers to the questions connected with oral hygiene habits show the patient’s interest in oral health care....</a:t>
            </a:r>
            <a:endParaRPr b="0" lang="en-US" sz="2000" spc="-1" strike="noStrike">
              <a:solidFill>
                <a:srgbClr val="000000"/>
              </a:solidFill>
              <a:latin typeface="Constantia"/>
            </a:endParaRPr>
          </a:p>
          <a:p>
            <a:pPr marL="272880" indent="-2728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rest of the lesson can be found in the textbook “English in Dentistry” by Natasa Milosavljevic.</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yorrhea</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r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rinding</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lint</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phylaxi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ur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ittoon</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uter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ta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estle</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alking points:</a:t>
            </a:r>
            <a:endParaRPr b="0" lang="en-US" sz="28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IMPORTANCE OF DENTAL HISTOR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MOST IMPORTANT QUESTIONS FOR  DENTAL HISTORY</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Find nouns, adjectives and adverbs which are related to the verbs listed below:</a:t>
            </a:r>
            <a:endParaRPr b="0" lang="en-US" sz="28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s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ffec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prehe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ler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rtai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ticulat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for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parat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clud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mote</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Underline the word which is different from others:</a:t>
            </a:r>
            <a:endParaRPr b="0" lang="en-US" sz="28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mpair           debilitate         enhance         deteriorat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uppress        subdue            extinguish      incit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evalent       uncommon     dominant       widesprea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urtail            prolong           lessen              reduc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ermittent   recurrent        occasional      continuou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rsistent       enduring        transient         perpetual</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bat           rest                  defy                struggl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ntact              inviolate         armed            sound</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lentless       submissive      fierce              implacabl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lapsed        deterioration   regression      improvemen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Use either the Gerund or the Infinitive of the verbs in brackets:</a:t>
            </a:r>
            <a:endParaRPr b="0" lang="en-US" sz="28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Wasn’t your brother busy (translate) these scientific article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e with me; you will hear Professor Brown (speak) on alternative medicin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aven’t you got used to (work) in this institutio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erhaps I’d better (tell) you how this function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y are proud of (be) good student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 you enjoy (take) short walk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he has never heard anybody (play) this instrument so beautifull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 you think he will succeed in (pass) his exam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hat adjectives can be used to describe the following words:</a:t>
            </a:r>
            <a:endParaRPr b="0" lang="en-US" sz="28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ea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orde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haviou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nic</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nsio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Use the appropriate form of the words in brackets:</a:t>
            </a:r>
            <a:endParaRPr b="0" lang="en-US" sz="28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ot all receptors give rise to direct (sensory) awareness.</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creening is very important in the (prevent) of a diseas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low progress is being made in the (chemotherapy) treatment of (virus) disease.</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ome vaccines are usually considered (risk) to people who have a damaged immune system.</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ny people have diabetes but they are (aware) of i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f (diagnose) on time, some diseases can lead to serious complications affecting various parts of the body.</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2-09T20:51:33Z</dcterms:modified>
  <cp:revision>23</cp:revision>
  <dc:subject/>
  <dc:title>Slide 1</dc:title>
</cp:coreProperties>
</file>